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B45-44C2-4AC9-A46D-9B5D9E7A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617-4F3A-49CE-95DE-2B3EF366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C66E-938F-4CD8-A3C4-6987ADF4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6B0-89EF-4EDC-A09B-5B4514AE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E90-B983-4E51-8CB4-283882E2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928-E962-40E6-BDCD-DE64CC6B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0FA-B359-440B-9097-9305A9AB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164-9112-4C9A-B2E7-B8FE53F9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D70-C61B-4624-BC95-739E07F9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F94-3E3C-4187-9040-AC28371D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C10-2B84-41F6-A95D-D2CA2E66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0D5-C93E-467F-9B8D-561852AE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9C6FF-D18F-48D1-B735-0E7B853BCC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50825-5EFC-45A2-948E-D51121987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UP – Top ½ 14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27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hinking back to our definition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rassroots mov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do you THINK “a movement” mea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organized action of a group of people with a common ideology (beliefs/idea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What do you THINK would cause Mexican- Americans/Chican@s to begin a mov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PAGE 14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264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tle: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tart of the Chicano 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your page into three equal se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roblem: Why did Mexican-America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 Strategies/Methods of organi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s of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146320" y="4984920"/>
            <a:ext cx="5702400" cy="855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atch 27 minutes of Chicano! And complete notes on page 14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308400" y="6167520"/>
            <a:ext cx="33048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youtu.be/sRWnfTmN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 – Bottom ½ 14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hree images and/or stories from the early start of the Chican@ Movement stand out to you most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 &amp;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469880"/>
            <a:ext cx="77724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can@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tionality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alk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tino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thnicity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own Ber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ispanic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ace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grant worker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esar Chav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ed Farm Worker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olores Hue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 Mexican War of 1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ightbacknews.org/2003winter/brownberets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08:46:54Z</dcterms:created>
  <dc:creator>Teacher</dc:creator>
  <dc:description/>
  <dc:language>en-US</dc:language>
  <cp:lastModifiedBy>Teacher</cp:lastModifiedBy>
  <dcterms:modified xsi:type="dcterms:W3CDTF">2012-03-15T00:03:28Z</dcterms:modified>
  <cp:revision>2</cp:revision>
  <dc:subject/>
  <dc:title>START UP – Top ½ 142</dc:title>
</cp:coreProperties>
</file>